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69D6-8C9C-4CC7-AD28-07B66BFF7A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644-3D4B-48F0-8D29-C8B5AEEBC4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87E2-0517-4622-B56B-833727C7B0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841-DDC1-4378-B149-05459CCD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177-5F65-4048-B43F-C4F52D2C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B46-C5A3-4640-9A79-382442CC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CE2-87A4-4BAD-A956-9D58DF07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55A-1150-4227-9D1D-3740356A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3F2-BB70-40C8-8A2D-8A0D3A6D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127-31E7-4C65-BA2B-ED38BCE4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08F-0E22-43FF-ADF3-C9EE9044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26E-1DD5-4C20-BC20-6C63B51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F3A-2E5B-4978-8443-68E6913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4BF-2CE2-4D49-B1D4-A2D55AAB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E96-736E-4CEA-B8F0-F754F5A4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99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F99A-470E-4BFB-97D1-1FD8A7661C1A}" type="slidenum">
              <a:rPr b="0" lang="en-GB" sz="1400" spc="-1" strike="noStrike">
                <a:solidFill>
                  <a:srgbClr val="9999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Joint Office of Gas Transporters"/>
          <p:cNvPicPr/>
          <p:nvPr/>
        </p:nvPicPr>
        <p:blipFill>
          <a:blip r:embed="rId2"/>
          <a:stretch/>
        </p:blipFill>
        <p:spPr>
          <a:xfrm>
            <a:off x="7086600" y="6134040"/>
            <a:ext cx="183996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ode Administration</a:t>
            </a:r>
            <a:br>
              <a:rPr sz="4400"/>
            </a:b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ode of Practice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948360" y="501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ff"/>
                </a:solidFill>
                <a:latin typeface="Arial"/>
                <a:ea typeface="Times New Roman"/>
              </a:rPr>
              <a:t>Tim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PIs Q1 2011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Friend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umber and percentage of survey respondents who stated they were ‘satisfied’ or better with the assistance offered by the JO</a:t>
            </a:r>
            <a:endParaRPr b="0" lang="en-US" sz="20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ff"/>
                </a:solidFill>
                <a:latin typeface="Arial"/>
              </a:rPr>
              <a:t>38 responses, 100% satisfied or better</a:t>
            </a:r>
            <a:endParaRPr b="0" lang="en-US" sz="16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99ff"/>
              </a:solidFill>
              <a:latin typeface="Arial"/>
            </a:endParaRPr>
          </a:p>
        </p:txBody>
      </p:sp>
      <p:pic>
        <p:nvPicPr>
          <p:cNvPr id="54" name="Chart 5" descr=""/>
          <p:cNvPicPr/>
          <p:nvPr/>
        </p:nvPicPr>
        <p:blipFill>
          <a:blip r:embed="rId1"/>
          <a:stretch/>
        </p:blipFill>
        <p:spPr>
          <a:xfrm>
            <a:off x="1616040" y="2560680"/>
            <a:ext cx="61992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Quality of assessment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55640" y="2968560"/>
          <a:ext cx="7772400" cy="1828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fg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7" name="TextBox 5"/>
          <p:cNvSpPr/>
          <p:nvPr/>
        </p:nvSpPr>
        <p:spPr>
          <a:xfrm>
            <a:off x="900000" y="5516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sed on Ofgem decisions in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42920" y="170028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ports “sent back” by Of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Ofgem Decisions accord with Panel (91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Effective communication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Glossary and plain English summary to be provided with reports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Part of standard documentation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Average number of respondents to consultation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9.1 (16 Consultations)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Efficient administration (1)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360" y="148392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ercentage of papers published outside of modification rules requirements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0% Formal UNC Modification Papers (Mods, DMRs, FMRs)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23% Meeting Papers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69 Meetings</a:t>
            </a:r>
            <a:endParaRPr b="0" lang="en-US" sz="2400" spc="-1" strike="noStrike">
              <a:solidFill>
                <a:srgbClr val="99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366 Papers</a:t>
            </a:r>
            <a:endParaRPr b="0" lang="en-US" sz="24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Efficient Administration (2)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Number and percentage of reports submitted to the authority in line with original timetable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One 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Number of extensions to timetable requested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Fourteen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Efficient Administration (3)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2840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verage time betwe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sal being raised and submitted for d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sal being submitted for decision and decision being pu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sion and implementation (separately identifying systems and non-system chang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no central systems chang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Implementation costs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Number and percentage of reports for which implementation cost estimates were available for consultation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Accuracy percentage difference (whether higher or lower) between estimated and actual implementation costs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ode Administration</a:t>
            </a:r>
            <a:br>
              <a:rPr sz="4400"/>
            </a:b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ode of Practice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948360" y="501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ff"/>
                </a:solidFill>
                <a:latin typeface="Arial"/>
                <a:ea typeface="Times New Roman"/>
              </a:rPr>
              <a:t>Tim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PIs Q1 2011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4:07:22Z</dcterms:created>
  <dc:creator>Tim Davis</dc:creator>
  <dc:description/>
  <dc:language>en-US</dc:language>
  <cp:lastModifiedBy>Tim Davis</cp:lastModifiedBy>
  <dcterms:modified xsi:type="dcterms:W3CDTF">2011-04-13T19:01:05Z</dcterms:modified>
  <cp:revision>43</cp:revision>
  <dc:subject/>
  <dc:title>Modification Panel Processes</dc:title>
</cp:coreProperties>
</file>